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CFEC-5D4B-4A7A-A49F-8FB81B3F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6895-A335-466B-8E63-0A9F4C5F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5D10-61E8-4DA8-BFBF-DF292D41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C5CB-5D75-40CA-AB4D-D821C5D5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D1A7-7798-43EF-931B-3AD0D4C0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85E1-D5C7-408A-A715-D479E038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44EB-A1C6-4D76-84D0-E3CDF728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AF0C-F679-4F1D-BF7A-C16CD26A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492D-B13F-4953-AC54-57766BB1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9A62-FE0D-49DC-A1A3-44F9B577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87EE-A7C5-420C-B80C-04A9638B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1875-0872-464B-BC06-8B31CA06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d5f5fe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9643-9501-41C5-8C45-886E6EE4E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faf"/>
            </a:gs>
            <a:gs pos="50000">
              <a:srgbClr val="00ffff"/>
            </a:gs>
            <a:gs pos="100000">
              <a:srgbClr val="00af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Исполнение бюджета Кашарского района</a:t>
            </a:r>
            <a:r>
              <a:rPr b="1" i="1" lang="en-US" sz="4400" spc="-1" strike="noStrike">
                <a:solidFill>
                  <a:srgbClr val="002850"/>
                </a:solidFill>
                <a:latin typeface="Arial"/>
              </a:rPr>
              <a:t> </a:t>
            </a:r>
            <a:br>
              <a:rPr sz="4400"/>
            </a:br>
            <a:r>
              <a:rPr b="1" i="1" lang="en-US" sz="4400" spc="-1" strike="noStrike" u="sng">
                <a:solidFill>
                  <a:srgbClr val="0000cc"/>
                </a:solidFill>
                <a:uFillTx/>
                <a:latin typeface="Arial"/>
              </a:rPr>
              <a:t>за 2016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http://wreferat.baza-referat.ru/2_1980683171-55446.wpic"/>
          <p:cNvPicPr/>
          <p:nvPr/>
        </p:nvPicPr>
        <p:blipFill>
          <a:blip r:embed="rId1"/>
          <a:stretch/>
        </p:blipFill>
        <p:spPr>
          <a:xfrm>
            <a:off x="2411280" y="2708280"/>
            <a:ext cx="419112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d5f5fe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468360" y="1547640"/>
            <a:ext cx="860112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d5f5fe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Динамика доходов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консолидированного бюджета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Кашарского района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79320" y="1600200"/>
          <a:ext cx="77853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1600200"/>
                    <a:ext cx="7785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d5f5fe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Динамика доходов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бюджета Кашарского района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в 2012 – 2016 гг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11280" y="1600200"/>
          <a:ext cx="799308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00200"/>
                    <a:ext cx="79930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d5f5fe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cc"/>
                </a:solidFill>
                <a:uFillTx/>
                <a:latin typeface="Arial"/>
              </a:rPr>
              <a:t>Структура доходов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бюджета Кашарского района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за 2016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217520" y="1600200"/>
          <a:ext cx="67071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1600200"/>
                    <a:ext cx="67071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d5f5fe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Структура поступлений налоговых и неналоговых доходов и их доля </a:t>
            </a:r>
            <a:br>
              <a:rPr sz="2800"/>
            </a:b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бюджета Кашарского района за 201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69960" y="1600200"/>
          <a:ext cx="780408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1600200"/>
                    <a:ext cx="78040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d5f5fe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 u="sng">
                <a:solidFill>
                  <a:srgbClr val="0033cc"/>
                </a:solidFill>
                <a:uFillTx/>
                <a:latin typeface="Arial"/>
              </a:rPr>
              <a:t>Динамика расходов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консолидированного бюджета Кашарского райо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74880" y="1600200"/>
          <a:ext cx="719424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4880" y="1600200"/>
                    <a:ext cx="71942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d5f5fe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Структура расходов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бюджета Кашарского района </a:t>
            </a:r>
            <a:br>
              <a:rPr sz="2800"/>
            </a:b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по разделам и подразделам бюджетной классификации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за 201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2584440"/>
          <a:ext cx="8229600" cy="327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84440"/>
                    <a:ext cx="8229600" cy="32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d5f5fe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cc"/>
                </a:solidFill>
                <a:uFillTx/>
                <a:latin typeface="Arial"/>
              </a:rPr>
              <a:t>Исполнение бюджета </a:t>
            </a:r>
            <a:br>
              <a:rPr sz="3200"/>
            </a:br>
            <a:r>
              <a:rPr b="1" lang="en-US" sz="3200" spc="-1" strike="noStrike" u="sng">
                <a:solidFill>
                  <a:srgbClr val="0033cc"/>
                </a:solidFill>
                <a:uFillTx/>
                <a:latin typeface="Arial"/>
              </a:rPr>
              <a:t>Кашарского района </a:t>
            </a:r>
            <a:br>
              <a:rPr sz="3200"/>
            </a:b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по дорожному фонду за 2016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994280" y="1600200"/>
          <a:ext cx="3346560" cy="218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94280" y="1600200"/>
                    <a:ext cx="334656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992840" y="1628640"/>
          <a:ext cx="3755880" cy="4497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92840" y="1628640"/>
                    <a:ext cx="375588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57200" y="1600200"/>
          <a:ext cx="4038480" cy="4525200"/>
        </p:xfrm>
        <a:graphic>
          <a:graphicData uri="http://schemas.openxmlformats.org/drawingml/2006/table">
            <a:tbl>
              <a:tblPr/>
              <a:tblGrid>
                <a:gridCol w="3430440"/>
                <a:gridCol w="608040"/>
              </a:tblGrid>
              <a:tr h="201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ходы на строительство (реконструкцию) автомобильных дорог общего пользования местного значения с твердым покрытием до сельских населенных пунктов, не имеющих круглогодичной связи с сетью автомобильных дорог общего поль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ходы на текущий ремонт и содержание автомобильных дорог Кашарского райо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2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ходы на проектирование автомобильных дорог общего пользования местного значения с твердым покрытием до сельских населенных пунктов, не имеющих круглогодичной связи с сетью автомобильных дорог общего поль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d5f5fe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Исполнение расходов бюджета Кашарского района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за 2016 год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по муниципальным программам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(тыс. рубл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197000"/>
          <a:ext cx="8229600" cy="5108400"/>
        </p:xfrm>
        <a:graphic>
          <a:graphicData uri="http://schemas.openxmlformats.org/drawingml/2006/table">
            <a:tbl>
              <a:tblPr/>
              <a:tblGrid>
                <a:gridCol w="7067520"/>
                <a:gridCol w="116208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5 221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Кашарского района «Развитие здравоохранения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100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Кашарского района «Развитие образования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 274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Кашарского района «Молодежь Кашарского района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Кашарского района «Социальная поддержка граждан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 851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Кашарского района «Доступная среда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Кашарского района «Обеспечение доступным и комфортным жильем населения Кашарского района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806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Кашарского района «Обеспечение качественными жилищно-коммунальными услугами населения Кашарского района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0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Кашарского района «Обеспечение общественного порядка и противодействие преступности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4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Кашарского района «Защита населения и территории от чрезвычайных ситуаций, обеспечение пожарной безопасности и безопасности людей на водных объектах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101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Кашарского района «Развитие культуры и туризма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 240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Кашарского района  «Охрана окружающей среды и рациональное природопользование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3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Кашарского района «Развитие физической культуры и спорта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Кашарского района «Экономическое развитие и инновационная экономика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19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Кашарского района «Информационное общество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550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Кашарского района «Развитие транспортной системы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270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Кашарского района «Развитие сельского хозяйства и регулирование рынков сельскохозяйственной продукции, сырья и продовольствия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 970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Кашарского района «Энергоэффективность и развитие энергетики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Кашарского района «Муниципальная политика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948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Кашарского района «Поддержка казачьих обществ Кашарского района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813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Кашарского района «Управление муниципальными финансами и создание условий для эффективного управления финансами сельских поселений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938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рограммные расходы бюджета Кашарского райо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 206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3T06:59:22Z</dcterms:created>
  <dc:creator>1</dc:creator>
  <dc:description/>
  <dc:language>en-US</dc:language>
  <cp:lastModifiedBy>1</cp:lastModifiedBy>
  <dcterms:modified xsi:type="dcterms:W3CDTF">2017-05-05T09:27:05Z</dcterms:modified>
  <cp:revision>53</cp:revision>
  <dc:subject/>
  <dc:title>Слайд 1</dc:title>
</cp:coreProperties>
</file>