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FBAF-C7BF-4F62-AC5F-971A550F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F630-5BE0-49DD-985D-8CEBBA52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7485-D341-4CAF-B3F5-21BF9B2C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898-5F99-42D6-85CC-DC84D3CD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8F6FD-D16A-42AC-BDCE-5ADA1C0E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3FE70-D2CE-44B5-BA09-B3FE48CB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99F7F-7590-4425-8F2A-FA282A21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A8009-0DC6-4DBE-8815-6773BAEE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E4487-746F-4C66-8958-819DDB90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619A0-546E-4B03-8919-75F57D7A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F087B-11BB-4689-9724-C53B6422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9963-2E40-4E6A-8783-74ACB42C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15C92-5211-4EC4-9939-5C5AAAE8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BF8C0-F711-4455-A32C-0349B1B8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8FA7A-9054-4E5B-B5E2-ECF1EE0B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DCE3E-81AF-4B25-9590-3B7CE882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97280-8D59-46F5-8976-5845E480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1206-80FD-4573-A78B-979516AC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7B33-286B-456D-9F32-013852F1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CC9-3F14-43D2-B5DA-12562CF6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C28C-CAA7-47A5-859D-F90DD298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1852-5D23-40CB-A869-4553D6B5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8C4-D0BE-4626-B153-FE012F5E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5C4-DA00-4CD7-8CEF-9879CD1E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1FD1-E8B8-4F14-B687-9001C7DB37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C152-20DE-4887-8CE8-CE65485B91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Бюджет Кашарского района на 2018 год и на плановый период 2019 и 2020 год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49228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http://wreferat.baza-referat.ru/2_1980683171-55446.wpic"/>
          <p:cNvPicPr/>
          <p:nvPr/>
        </p:nvPicPr>
        <p:blipFill>
          <a:blip r:embed="rId2"/>
          <a:stretch/>
        </p:blipFill>
        <p:spPr>
          <a:xfrm>
            <a:off x="1116000" y="2349360"/>
            <a:ext cx="72010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инамика расходов дорожного фонда Кашарского райо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2013120"/>
          <a:ext cx="8229600" cy="3898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13120"/>
                    <a:ext cx="822960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Бюджет развития Кашарского района на 2018 го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2868480"/>
          <a:ext cx="4038480" cy="2187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868480"/>
                    <a:ext cx="403848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280" y="5733720"/>
            <a:ext cx="7848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юджете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усмотрено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обретение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дульного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АПа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общую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мму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0,0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ыс.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б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90476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84360" y="1557360"/>
            <a:ext cx="68626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аспределение бюджетных ассигнований направляемых на государственную поддержку семьи и детей, на 2017 год по программа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90520" y="1400040"/>
          <a:ext cx="8602560" cy="5399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0520" y="1400040"/>
                    <a:ext cx="8602560" cy="53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476280"/>
            <a:ext cx="3816360" cy="1873080"/>
          </a:xfrm>
          <a:prstGeom prst="wedgeRoundRectCallout">
            <a:avLst>
              <a:gd name="adj1" fmla="val -47504"/>
              <a:gd name="adj2" fmla="val 140171"/>
              <a:gd name="adj3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новные направления бюджетной и налоговой политики на 2018-2020 г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Постановление Администрации Кашарского района от 26.09.2017 № 74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765000"/>
            <a:ext cx="2786040" cy="2087640"/>
          </a:xfrm>
          <a:prstGeom prst="wedgeRoundRectCallout">
            <a:avLst>
              <a:gd name="adj1" fmla="val 95754"/>
              <a:gd name="adj2" fmla="val 99203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16720" y="2492280"/>
            <a:ext cx="2089080" cy="1582200"/>
          </a:xfrm>
          <a:prstGeom prst="wedgeRoundRectCallout">
            <a:avLst>
              <a:gd name="adj1" fmla="val -127652"/>
              <a:gd name="adj2" fmla="val 49134"/>
              <a:gd name="adj3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униципальные программы Кашарского рай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581360"/>
            <a:ext cx="3382920" cy="1440000"/>
          </a:xfrm>
          <a:prstGeom prst="wedgeRoundRectCallout">
            <a:avLst>
              <a:gd name="adj1" fmla="val 77027"/>
              <a:gd name="adj2" fmla="val -78333"/>
              <a:gd name="adj3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гноз социально-экономического развития Кашарского района на 2018-2020 г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3357720"/>
            <a:ext cx="2592360" cy="2592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нова формирования бюджета Кашарского района на 2018-2020 г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219480" cy="2686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732720" y="4365720"/>
            <a:ext cx="2016000" cy="1833480"/>
          </a:xfrm>
          <a:prstGeom prst="wedgeRoundRectCallout">
            <a:avLst>
              <a:gd name="adj1" fmla="val -82046"/>
              <a:gd name="adj2" fmla="val 6189"/>
              <a:gd name="adj3" fmla="val 16667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юджетный прогноз Кашарского района на период 2017-2028 г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ект бюджета Кашарского района на 2018 год и на плановый период 2019 и 2020 годов направлен на решение следующих ключевых задач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700280"/>
            <a:ext cx="7777440" cy="720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еспечение сбалансированности бюджета Кашарского района и бюджетов сельских посел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2637000"/>
            <a:ext cx="7777440" cy="647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вышение качества и объективности бюджетного плани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3500280"/>
            <a:ext cx="7705800" cy="8654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еспечение в полной мере приоритизации структуры бюджетных расходов в целях увеличения доли средств, направленных на развитие человеческого капитала и инфраструк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4581360"/>
            <a:ext cx="7777080" cy="14176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вышение эффективности распределения бюджетных средств в целях возможности совершения бюджетного маневра, ответственного подхода к принятию новых расходных обязательств с учетом их социально-экономической значим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сновные параметры бюджета Кашарского района на 2018 го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557360"/>
          <a:ext cx="4430880" cy="4908600"/>
        </p:xfrm>
        <a:graphic>
          <a:graphicData uri="http://schemas.openxmlformats.org/drawingml/2006/table">
            <a:tbl>
              <a:tblPr/>
              <a:tblGrid>
                <a:gridCol w="4430880"/>
              </a:tblGrid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ходы бюдж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14 122,5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ыс. рубл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лог на доходы физических лиц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 698,6 тыс. рублей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логи на совокупный дох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 803,8 тыс. рубл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кцизы 15 705,2 тыс. рубл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ходы от использования имуще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 485,2 тыс. рубле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нансовая помощь из областного бюджета 529 441,1 тыс. рублей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afd8"/>
                    </a:solidFill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ые дох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988,6 тыс. рубл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0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148360" y="1557360"/>
          <a:ext cx="3556080" cy="5033880"/>
        </p:xfrm>
        <a:graphic>
          <a:graphicData uri="http://schemas.openxmlformats.org/drawingml/2006/table">
            <a:tbl>
              <a:tblPr/>
              <a:tblGrid>
                <a:gridCol w="35560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сходы бюджет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15 031,0 тыс. рубл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раз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8 093,2 тыс. рубл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циальная поли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5 145,1 тыс. рубл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дравоохран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 346,5 тыс. рубл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ульту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 557,2 тыс. рубл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рожный фонд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7 557,4 тыс. рубл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илищно-коммунальное хозяй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 942,3 тыс. рубл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a8a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ые расх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9 389,3 тыс. рубл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Динамика поступлений собственных доходов бюджета Кашарского района 2018-2020 год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71480" y="1905120"/>
          <a:ext cx="760104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1480" y="1905120"/>
                    <a:ext cx="7601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езвозмездные поступления из областного бюдж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2325600"/>
          <a:ext cx="4038480" cy="3273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325600"/>
                    <a:ext cx="4038480" cy="32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24000" y="1243080"/>
          <a:ext cx="8362800" cy="50655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000" y="1243080"/>
                    <a:ext cx="836280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труктура собственных доходов бюджета Кашарского района на 2018 год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(тыс. рублей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2205000"/>
          <a:ext cx="8075520" cy="4319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205000"/>
                    <a:ext cx="80755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сходы бюджета Кашарского рай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9640" y="1905120"/>
          <a:ext cx="806472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905120"/>
                    <a:ext cx="8064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спределение программных расходов бюджета Кашарского района на 2018 год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125360"/>
          <a:ext cx="7931160" cy="5259600"/>
        </p:xfrm>
        <a:graphic>
          <a:graphicData uri="http://schemas.openxmlformats.org/drawingml/2006/table">
            <a:tbl>
              <a:tblPr/>
              <a:tblGrid>
                <a:gridCol w="1982880"/>
                <a:gridCol w="1982520"/>
                <a:gridCol w="2094120"/>
                <a:gridCol w="1871640"/>
              </a:tblGrid>
              <a:tr h="100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Кашарского района «Развитие здравоохранения»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 163,4 тыс. рубле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ая программа Кашарского района «Развитие образования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0 888,7 тыс. рубле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a8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ая программа Кашарского района «Молодежь Кашарского района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3,4 тыс. рубле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ая программа Кашарского района «Социальная поддержка граждан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 421,0 тыс. рубле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3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ая программа Кашарского района «Доступная среда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9 тыс. рубле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ая программа Кашарского района «Обеспечение доступным и комфортным жильем населения Кашарского района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96,0 тыс. рубле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ая программа Кашарского района «Обеспечение качественными жилищно-коммунальными услугами населения Кашарского района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4,8 тыс. рубле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ая программа Кашарского района «Обеспечение общественного порядка и противодействие преступности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7,9 тыс. рубле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600"/>
                    </a:solidFill>
                  </a:tcPr>
                </a:tc>
              </a:tr>
              <a:tr h="13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ая программа Кашарского района «Защита населения и территории от чрезвычайных ситуаций, обеспечение пожарной безопасности и безопасности людей на водных объектах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32,1 тыс. рубле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ая программа Кашарского района «Развитие сельского хозяйства и регулирование рынков сельскохозяйственной продукции, сырья и продовольствия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6 920,7 тыс. рубле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ая программа Кашарского района «Управление муниципальными финансами и создание условий для эффективного управления финансами сельских поселений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90,2 тыс. рубле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af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ая программа Кашарского района «Развитие физической культуры и спорта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2,9 тыс. рубле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0ee"/>
                    </a:solidFill>
                  </a:tcPr>
                </a:tc>
              </a:tr>
              <a:tr h="91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ая программа Кашарского района «Экономическое развитие и инновационная экономика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1,0 тыс. рубле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ая программа Кашарского района «Информационное общество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822,7 тыс. рубле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ая программа Кашарского района «Развитие транспортной системы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 615,9 тыс. рубле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ая программа Кашарского района «Развитие культуры и туризма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090,0 тыс. рубле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ая программа Кашарского района «Муниципальная политика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,8 тыс. рубле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ая программа «Поддержка казачьих обществ Кашарского района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170,4 тыс. рубле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программа «Охрана окружающей среды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7,7 тыс. рубле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лагоустройство общественных территорий Кашарского район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 467,6 тыс. рубле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99"/>
                    </a:solidFill>
                  </a:tcPr>
                </a:tc>
              </a:tr>
            </a:tbl>
          </a:graphicData>
        </a:graphic>
      </p:graphicFrame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459280" y="1557360"/>
            <a:ext cx="403884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3T06:59:22Z</dcterms:created>
  <dc:creator>1</dc:creator>
  <dc:description/>
  <dc:language>en-US</dc:language>
  <cp:lastModifiedBy>1</cp:lastModifiedBy>
  <dcterms:modified xsi:type="dcterms:W3CDTF">2018-02-22T06:03:38Z</dcterms:modified>
  <cp:revision>100</cp:revision>
  <dc:subject/>
  <dc:title>Слайд 1</dc:title>
</cp:coreProperties>
</file>